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8B0C-DD9C-4278-86B7-BD706927D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407E-72DD-4F44-AF62-EBF8B15D3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629F-8068-4653-95FA-E043A5CD0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D5B7-F80A-4668-BD64-3EAC076B1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69FE-6277-4B41-A7F6-23EFE41E2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85F7-EE49-4005-BA40-D22614942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203B-D9DB-45BA-8219-C38010419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A649-AF13-4AFF-AAF2-A905DEEAB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973E-84BF-43D0-A8BD-B20566823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5CDB-6700-4B37-821B-AED140AD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B98F-F5E3-481C-BED4-170200F0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F9B0-B4AE-492D-ACF0-D4BBC45D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FF8CD1-70D0-4E1E-869A-A966B9FA65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E2F15F-2CCD-40EA-8240-91290C3CFF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msbalakrishnan.wikispaces.com/" TargetMode="External"/><Relationship Id="rId2" Type="http://schemas.openxmlformats.org/officeDocument/2006/relationships/hyperlink" Target="http://msbalakrishnan.wikispaces.com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gital Learning in the classro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ithili Balakrishn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ugust 8,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nk to my wikisp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msbalakrishnan.wikispaces.com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17:14:31Z</dcterms:created>
  <dc:creator>College of Education</dc:creator>
  <dc:description/>
  <dc:language>en-US</dc:language>
  <cp:lastModifiedBy>College of Education</cp:lastModifiedBy>
  <dcterms:modified xsi:type="dcterms:W3CDTF">2009-08-08T18:34:14Z</dcterms:modified>
  <cp:revision>4</cp:revision>
  <dc:subject/>
  <dc:title>Digital Learning</dc:title>
</cp:coreProperties>
</file>